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5633-BBB5-4051-8CD8-71CC3129B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6A23-B6F3-4859-B81C-ECA4CF5F8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0AF9-3998-426A-B830-D4173A73E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99B7-F43E-4B9B-B193-D800E6BDE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358D8-7CA3-403A-A0BE-1362FD992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FF971-A022-4B69-BAB8-D80981DAF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D6126-6A20-4675-8161-CFE47FAEA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5189C-9486-416F-A4C1-B76648FE2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F8DC7-29B6-41D5-BBB6-9846C113B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5F893-06FF-4E9B-BF84-A7C9A3425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081F5-ADE6-421F-9304-D3E6607A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024D-7238-49F8-88AB-C629D6A21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63192-D116-40BC-98C5-131AAAD9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ED3AB-73BC-4DE2-8C2F-E3C0B917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78F92-4151-4223-AA0F-A4E7101E4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2BFBE-E1CD-482C-98FD-9FAAD25BC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93F3C-6349-4DAE-8DEA-11BCF6DAA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4F6C6-45E8-4341-8E4F-B55A6B74A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AEC48-4830-4A20-8325-A9708CFDD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67C59-09A5-440F-8A75-5B9074649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564E2-7A0F-4453-884A-35CFC5413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7263C-A5D9-4D7D-8CFB-B0D098475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34FA-6E3D-436C-95BA-A41F3844A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434FE-ADDC-48C3-95A2-8F163333C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68272-6AFB-486E-93BA-5C4AD3CD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6B58C-540D-43A6-9878-EB0E84B7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CB616-C0FD-435D-AD72-41716C0B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E5045-3056-4B66-867A-6C47EF8CD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E8B66-0100-48F7-AA2B-CF6F7F443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3595A-71BC-40A3-A786-F4851FDCB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28138-18A1-402F-8A47-50B3BAF94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E4C37-01E9-44DC-B98A-62A4AC8A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3F2AE-7B9C-4EEC-8CA0-84D83FD92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C0F2-C8C7-4AC7-8A5A-2BFBEBAE0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F5494-E46B-405E-A74D-1B07977A4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E8858-B672-4B88-ABB0-434E954FD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B693F-EF86-4F5F-A758-3D66A0593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8E02E-D462-45D2-ABE4-38E60DDE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DA9C8-605C-4DE4-A555-8BD331AC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A415F-9A22-402C-A6E7-EA8AF046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08C84-5C38-4FD7-998A-98D839162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DC1E1-1754-4633-A89F-106009AB6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C13F2-2120-4110-B67D-AA8EB95F1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5657A-2437-47D6-8402-55C3EDB3E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2F98-5510-4AF9-A58D-12D96CAF3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329E7-B056-4141-8100-679C73B80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66A11-416C-433A-B383-C57282C08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10F61-4BBE-4BF5-93D9-B95CCD610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03ACF-B149-4BDF-950A-7BB898488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E6584-4B13-4549-B9BC-FAAE18846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D9DF7-59A0-4BEC-BD03-DC97BDEC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6272A-17D2-464A-BEBD-4CE77261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579DC-8070-4245-8277-24E6B308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D38C2-1F00-4017-BD46-A70135C45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7DBE8-6ED1-4AD9-B969-90CE55D21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B9DB-4767-4C2D-985E-6BCDADCAE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F3FC6-83CB-4207-8720-2D193F991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18949-E925-45A8-9560-71DA91859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099E6-6865-42C6-98E7-3D295371A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6EAA9-3935-473B-AE35-AA1951F41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D3F12-442A-4A96-9784-DB3B77D3C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E74C5-9567-4DC5-A438-7D71705D2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73A36-17DE-464D-8E77-B7E6FDAAF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6BEAB-1C8D-471B-87A1-6D8E6743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41D2A-EFE1-424E-8C2A-7681BE6F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E0A87-A7FB-4044-AC1E-A23DC335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C8BB-1BDF-496B-917F-6B801F5C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4461E-4D35-4FE6-B92D-E0B6B67EF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58946-DCF6-41A1-A6E0-DD95C8448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E7B9B-BADC-4B12-ACD6-A9E15EFAA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F19FD-0E5C-4075-A717-520829F39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57DDB6-F8FA-41BB-BEE0-2EFB76637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95E88-4D1B-40DB-B5DE-E7438A1C3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4C34F-CCF6-4B18-9F75-2A4B19497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8D9A57-F815-4626-A170-B78B2B526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CFF491-6841-424C-BFAF-458759569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BBCB3-19EA-403C-997B-2CAE333F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E277-24A1-4DC4-8A29-8BDD12F9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34DB13-CBD2-45E8-9905-91EF12BF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571A79-8540-42EC-9F5B-91A8BEB4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8E6D4-0116-4C14-A235-449999E09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135A32-62D2-4DFF-8947-B119AB484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76CCD2-5B61-43DA-90AF-C6EA4D784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05E6D7-09B8-4DB7-A0BA-78125E26C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273C6A-DAA2-4FFD-B3C1-1281AEE79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EDFCBB-7AA4-4FC6-9A14-D3E7674EB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914409-7E6B-43B8-B70F-81DA04C04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430FEE-9DB3-421A-B177-995F142FE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CE06-692E-4E85-B2EF-38CB0B7E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1C9960-346C-4C3C-B02D-4BB81A592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3EBB9-D7E7-4F99-9379-25E5E987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98D34E-902D-47BF-A56B-6C7388E0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57680C-BB5D-49C8-BB6C-DC64E1CA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5E459E-BDD2-42B8-8824-A54BF81D2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9946DA-33C4-4AF2-85BD-9907B1191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68C3E5-20EA-48FA-8289-1ABBF1221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0ED0F-335A-4781-B5CE-14AA6F7529E2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4520" y="4952880"/>
              <a:ext cx="7449480" cy="48816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8160"/>
                <a:gd name="textAreaBottom" fmla="*/ 488520 h 48816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7640"/>
              <a:ext cx="9099720" cy="788760"/>
            </a:xfrm>
            <a:custGeom>
              <a:avLst/>
              <a:gdLst>
                <a:gd name="textAreaLeft" fmla="*/ 0 w 9099720"/>
                <a:gd name="textAreaRight" fmla="*/ 9100080 w 9099720"/>
                <a:gd name="textAreaTop" fmla="*/ 0 h 788760"/>
                <a:gd name="textAreaBottom" fmla="*/ 789120 h 78876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64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5BD02-325A-49D5-A886-4D4BED645D79}" type="slidenum">
              <a:rPr b="0" lang="en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F1BCA-ED82-46A8-B23D-E3F016E25D00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570CC-2F75-4F2B-A89B-21D613CDB0E7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CD552-38F3-4A95-84DD-1B86F0FBE888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412ED-1E1E-4F25-9ADB-9E364C4804F4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5CF6A-FC8C-4CE6-9DD4-D70EC864A49E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8D47-A28B-4B80-B8FE-7C4F5BB3323C}" type="slidenum">
              <a:rPr b="0" lang="en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401760"/>
            <a:ext cx="8083440" cy="184788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What did the first nations people receive in exchange for more land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A) Alcoho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B) payment of land called a reserv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C) anima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D) all of the lan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What is a treaty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A) something you give your kids when they are goo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B) a contract for lan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C) a contract for exchanging goo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D) a document that you sign to become a citizen of Canad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Which native culture lived in longhouses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A) Cre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B) Mohaw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C) Haid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D) All of the abov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What was the objective behind the longhouses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A) so they could live in a big hous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B) They could share resourc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C) So they could all live togeth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D) For family reas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Who are the largest aboriginal group in Canada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A) Mohaw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B) Haid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C) Cre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D) all of the abov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What native group would you find in the Queen Charlotte Islands in BC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A) Cre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B) Haid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C) Mohaw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What does the term nomadic mean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A) they are mad when you make them upse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B) They follow wildlife from season to seas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C) They follow the warm weath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D) all of the abov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How do the Cree move around in the winter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Dog sl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Cano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Snowmobil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Toboggan and snow sho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The Haida were superb craftspeople, they mad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A) Bow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B) Cano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C) Box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D) All of the abov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5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What Frist Nation tribe heat their entire village by using sawdust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A) Mohaw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B) Cre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C) Haid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D) all of the abov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What is cultural diversity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A) having many people drawn from different cultural backgroun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B) having some people come from different provinc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C) having people all from the same countr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D) having a diverse cultu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Which First Nations Tribe would you find around the Cornwall and New York State regions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A) Haid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B) Mohaw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C) Cre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D) all of the abov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9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When you get an opportunity to work on something in class from now on you will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A) Talk only about the assignment at han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B) Not sit there and do noth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C) Not look at magazin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D) All of the abov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1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An example of multiculturalism i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A) Foo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B) Cloth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C) Relig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D) All of the abov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To be a Canadian Citizen you must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A) Be born in Canad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B) Eat Canadian Foo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C) Pass the Canadian Citizen tes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D) Both A and C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Mother tongue i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A) a type of anima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B) your mothers tongu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C) the first language you were taught and understan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D) All of the abov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Ethnic Origins ar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A) the type of food you were brought up wit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B) a type of lan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C) your cultural backgroun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D) Where you want to live in the futu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Aboriginal people differ from each other by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A) where they liv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B) their languag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C) their cultu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D) all of the abov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Who were the first treaties made betwe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A) Europe and Canad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B) Canada and the United Stat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C) European Federal Gov’t and First Na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D) Pembroke and Petawaw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Two very important principles that had to be applied to the treaties wer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A) land ownership had to be protected and receive fair paym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B) land ownership had to be protected and they had to give them blanke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C) All of the rules will later be brok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D) All sides must have pizza and pepsi while negotiat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2:27:17Z</dcterms:created>
  <dc:creator>Jason</dc:creator>
  <dc:description/>
  <dc:language>en-US</dc:language>
  <cp:lastModifiedBy>Jason</cp:lastModifiedBy>
  <dcterms:modified xsi:type="dcterms:W3CDTF">2010-11-30T12:57:12Z</dcterms:modified>
  <cp:revision>3</cp:revision>
  <dc:subject/>
  <dc:title>CGC 1P1 Quiz #5</dc:title>
</cp:coreProperties>
</file>